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3704-2FF4-4ED0-8DE8-3C87426C8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10B27-2597-4FAD-AA0F-03AE8BAD1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0B19D-9A3E-43B2-A1E4-E63A61FFB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71716-3493-4E74-8D8B-C53D752AA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F3DBE-29F0-4818-8F14-E57368677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D2D16-F911-428C-88A9-C8E68D8BE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56A6A-F436-48F6-A33F-3BF0C1397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5803E-4733-4F58-B8F3-67DC13D9F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A247C-3F2E-430C-906F-E253E7DEB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A33E0-8040-45E9-8CD9-4A7207609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134FE-F313-47DA-AC2C-32AFF33A2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F7FD1-AFBC-4397-8E82-BE3DDEBB2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6C622-B92E-4A5C-AB76-D4B8D7E8C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94F2-131A-41AF-AEF9-DEAAD97F42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7-01-26T10:29:33Z</dcterms:modified>
  <cp:revision>2</cp:revision>
  <dc:subject/>
  <dc:title>Chapter 6  Our Solar System and Its Origin</dc:title>
</cp:coreProperties>
</file>